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4D5-F897-43F2-9BB7-BBB7654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81A-B3C7-407D-9912-E511120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BB7-4646-4716-A3DA-59F22EDD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298-0531-4A36-A623-8D661857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8A2-69BC-4C8F-B041-0536495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F4D-B1A2-47E2-B7CC-8806ECB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781-6E44-4655-8D80-ED18AE7B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6FA-2DE1-4EDA-8269-34984ED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EC9-D672-42F1-AE00-B88E2274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0AD-1C8B-43DC-985C-2D49FE6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57B-5CC7-459F-8F17-F5232EE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6A2-D30E-4E01-B772-1F78FC4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2F9E-658C-4A72-BC09-37D8D51C9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39640" y="952560"/>
            <a:ext cx="7777440" cy="26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感受李大钊大无畏的革命精神与坚贞不屈的崇高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2987640" y="1484280"/>
            <a:ext cx="3141720" cy="2556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00040" y="3086280"/>
            <a:ext cx="4118040" cy="33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矩形 3"/>
          <p:cNvSpPr/>
          <p:nvPr/>
        </p:nvSpPr>
        <p:spPr>
          <a:xfrm>
            <a:off x="0" y="404640"/>
            <a:ext cx="89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六年前的回忆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0920" y="1916280"/>
            <a:ext cx="58341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所谓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前后照应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就是指在文章的前面内容和后面的内容上要有着极其密切的关系，是对同一情况做出解释、说明、交代的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68360" y="2349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时候留在家里，埋头整理书籍和文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39640" y="4221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为了避免党组织被破坏，父亲只好把一些书籍和文件烧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995640" y="3429000"/>
            <a:ext cx="432000" cy="1008000"/>
          </a:xfrm>
          <a:prstGeom prst="upDownArrow">
            <a:avLst>
              <a:gd name="adj1" fmla="val 50000"/>
              <a:gd name="adj2" fmla="val 464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96120"/>
            <a:ext cx="74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回答式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应，即后面所说的是对前面内容的解释或回答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826920" y="1773360"/>
            <a:ext cx="73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27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月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日，我永远忘不了那一天。那是父亲的被难日，离现在已经十六年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4508640"/>
            <a:ext cx="75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昨天是你爹被害的日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昨天是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月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780000" y="3573360"/>
            <a:ext cx="431640" cy="1008000"/>
          </a:xfrm>
          <a:prstGeom prst="upDownArrow">
            <a:avLst>
              <a:gd name="adj1" fmla="val 50000"/>
              <a:gd name="adj2" fmla="val 464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8532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现式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应：即后面所说的是前文内容的再现或重复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2492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工友阎振三一早上街买东西，直到夜里还不见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284720" y="3789360"/>
            <a:ext cx="431640" cy="792000"/>
          </a:xfrm>
          <a:prstGeom prst="upDownArrow">
            <a:avLst>
              <a:gd name="adj1" fmla="val 50000"/>
              <a:gd name="adj2" fmla="val 36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68360" y="458136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在军警中间，我发现了前几天被捕的工友阎振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0688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续写式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应：即后面所说的是对前面提示的内容的延伸和深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12:38:38Z</dcterms:created>
  <dc:creator>Yang</dc:creator>
  <dc:description/>
  <dc:language>en-US</dc:language>
  <cp:lastModifiedBy>Sky123.Org</cp:lastModifiedBy>
  <dcterms:modified xsi:type="dcterms:W3CDTF">2015-08-31T11:30:20Z</dcterms:modified>
  <cp:revision>25</cp:revision>
  <dc:subject/>
  <dc:title>幻灯片 1</dc:title>
</cp:coreProperties>
</file>